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9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7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0937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9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1C169B-89AB-4E9D-8C5C-3ED43E7038DB}" type="slidenum">
              <a:rPr b="0" lang="en-US" sz="13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BFC523-4904-4859-A465-6E9DF08E672D}" type="slidenum">
              <a:rPr b="0" lang="en-US" sz="13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2ADE20-7D10-458B-8166-1A1F3D26B64E}" type="slidenum">
              <a:rPr b="0" lang="pt-P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E55008-9CCE-4C79-B46C-EB8593E7FE18}" type="slidenum">
              <a:rPr b="0" lang="pt-P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2FD581-4CDA-49F8-9BD6-792F6578DA28}" type="slidenum">
              <a:rPr b="0" lang="pt-P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FAD655-6D27-40A8-AC3F-B59F46E99E07}" type="slidenum">
              <a:rPr b="0" lang="pt-P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82803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13880" y="4063680"/>
            <a:ext cx="82803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13880" y="406368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56840" y="406368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13600" y="249192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13680" y="249192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13880" y="406368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13600" y="406368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13680" y="406368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EB3C-54B5-43E9-9508-EB20BC338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13880" y="249192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0507-D59A-4E50-9256-11A63330C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21A8-A0E3-4B95-8DC7-1DA13B8CD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0DCE-5BA8-4C8A-8F3D-BB0F53633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D82A-2D21-4073-A4EB-6C5E1A38C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13880" y="112500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ADDE-D67E-4834-91D2-12EC9BC98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13880" y="406368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A60D-AD4B-43AB-B9F8-53CC3FB2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13880" y="249192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6840" y="406368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FAF5-3923-4A54-8984-D47C79922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13880" y="4063680"/>
            <a:ext cx="82803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C748-EF9F-464C-9D57-FCD76E9A2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82803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13880" y="4063680"/>
            <a:ext cx="82803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BC75-A4B0-48B8-A62B-B4E4CD7AB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13880" y="406368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6840" y="406368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EB18-750F-494B-A729-0032F50BE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13600" y="249192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13680" y="249192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13880" y="406368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13600" y="406368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13680" y="406368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F925-6E9F-4FAC-A334-53D16678A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ED086-275E-46C3-8333-2679AC65A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13880" y="249192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DEA8C-D9BC-4E83-B43C-0FB26D1C5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8E2E9-078D-4C19-972A-7FE086F4B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FDF98-3A97-4DE5-9E36-ED4AFCE79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46868-69A3-439A-AEB7-C99BFD001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713880" y="112500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A6C8D-7786-48B0-AA58-909A70808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713880" y="406368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0DE8B-AAEA-4F51-AEF0-C033A320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56840" y="406368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DA97D-5E3E-4A50-81C6-7E31E58A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13880" y="4063680"/>
            <a:ext cx="82803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37CA1-B971-44E2-B35E-A6997547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82803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713880" y="4063680"/>
            <a:ext cx="82803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4CD1B-F467-478F-A842-BF9DBC176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713880" y="406368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956840" y="406368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CBAD9-787A-4A72-9474-E15297B2A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13600" y="249192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313680" y="249192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713880" y="406368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13600" y="406368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313680" y="406368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95F82-445E-42B5-9D53-ADBC762AB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13880" y="112500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13880" y="406368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56840" y="406368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13880" y="4063680"/>
            <a:ext cx="82803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093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13880" y="249192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30937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3" marL="1536120" indent="-219240">
              <a:spcBef>
                <a:spcPts val="601"/>
              </a:spcBef>
              <a:buClr>
                <a:srgbClr val="030937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4" marL="1974960" indent="-219240">
              <a:spcBef>
                <a:spcPts val="601"/>
              </a:spcBef>
              <a:buClr>
                <a:srgbClr val="030937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5" marL="1974960" indent="-219240">
              <a:spcBef>
                <a:spcPts val="60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6" marL="1974960" indent="-219240">
              <a:spcBef>
                <a:spcPts val="60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" name="Text Box 30"/>
          <p:cNvSpPr/>
          <p:nvPr/>
        </p:nvSpPr>
        <p:spPr>
          <a:xfrm>
            <a:off x="6227640" y="6510240"/>
            <a:ext cx="2773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800" spc="-1" strike="noStrike">
                <a:solidFill>
                  <a:srgbClr val="404040"/>
                </a:solidFill>
                <a:latin typeface="Arial"/>
              </a:rPr>
              <a:t>Vítor Figueiredo</a:t>
            </a: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Conexão recta 44"/>
          <p:cNvSpPr/>
          <p:nvPr/>
        </p:nvSpPr>
        <p:spPr>
          <a:xfrm>
            <a:off x="0" y="6381720"/>
            <a:ext cx="9144000" cy="0"/>
          </a:xfrm>
          <a:prstGeom prst="line">
            <a:avLst/>
          </a:prstGeom>
          <a:ln w="12600">
            <a:solidFill>
              <a:srgbClr val="0309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" name="Imagem 1" descr="logoesav"/>
          <p:cNvPicPr/>
          <p:nvPr/>
        </p:nvPicPr>
        <p:blipFill>
          <a:blip r:embed="rId2"/>
          <a:stretch/>
        </p:blipFill>
        <p:spPr>
          <a:xfrm>
            <a:off x="179280" y="115920"/>
            <a:ext cx="708120" cy="708120"/>
          </a:xfrm>
          <a:prstGeom prst="rect">
            <a:avLst/>
          </a:prstGeom>
          <a:ln w="0">
            <a:noFill/>
          </a:ln>
        </p:spPr>
      </p:pic>
      <p:sp>
        <p:nvSpPr>
          <p:cNvPr id="5" name="Retângulo 2"/>
          <p:cNvSpPr/>
          <p:nvPr/>
        </p:nvSpPr>
        <p:spPr>
          <a:xfrm>
            <a:off x="954360" y="473040"/>
            <a:ext cx="180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3300"/>
                </a:solidFill>
                <a:latin typeface="Verdana"/>
                <a:ea typeface="Times New Roman"/>
              </a:rPr>
              <a:t>IPV-Escola Superior Agrária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30"/>
          <p:cNvSpPr/>
          <p:nvPr/>
        </p:nvSpPr>
        <p:spPr>
          <a:xfrm>
            <a:off x="6227640" y="6510240"/>
            <a:ext cx="2773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800" spc="-1" strike="noStrike">
                <a:solidFill>
                  <a:srgbClr val="404040"/>
                </a:solidFill>
                <a:latin typeface="Arial"/>
              </a:rPr>
              <a:t>Vítor Figueiredo</a:t>
            </a: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Conexão recta 44"/>
          <p:cNvSpPr/>
          <p:nvPr/>
        </p:nvSpPr>
        <p:spPr>
          <a:xfrm>
            <a:off x="0" y="6381720"/>
            <a:ext cx="9144000" cy="0"/>
          </a:xfrm>
          <a:prstGeom prst="line">
            <a:avLst/>
          </a:prstGeom>
          <a:ln w="12600">
            <a:solidFill>
              <a:srgbClr val="0309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" name="Imagem 1" descr="logoesav"/>
          <p:cNvPicPr/>
          <p:nvPr/>
        </p:nvPicPr>
        <p:blipFill>
          <a:blip r:embed="rId2"/>
          <a:stretch/>
        </p:blipFill>
        <p:spPr>
          <a:xfrm>
            <a:off x="179280" y="115920"/>
            <a:ext cx="708120" cy="708120"/>
          </a:xfrm>
          <a:prstGeom prst="rect">
            <a:avLst/>
          </a:prstGeom>
          <a:ln w="0">
            <a:noFill/>
          </a:ln>
        </p:spPr>
      </p:pic>
      <p:sp>
        <p:nvSpPr>
          <p:cNvPr id="45" name="Retângulo 2"/>
          <p:cNvSpPr/>
          <p:nvPr/>
        </p:nvSpPr>
        <p:spPr>
          <a:xfrm>
            <a:off x="954360" y="473040"/>
            <a:ext cx="180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3300"/>
                </a:solidFill>
                <a:latin typeface="Verdana"/>
                <a:ea typeface="Times New Roman"/>
              </a:rPr>
              <a:t>IPV-Escola Superior Agrária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093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13880" y="249192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30937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3" marL="1536120" indent="-219240">
              <a:spcBef>
                <a:spcPts val="601"/>
              </a:spcBef>
              <a:buClr>
                <a:srgbClr val="030937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4" marL="1974960" indent="-219240">
              <a:spcBef>
                <a:spcPts val="601"/>
              </a:spcBef>
              <a:buClr>
                <a:srgbClr val="030937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5" marL="1974960" indent="-219240">
              <a:spcBef>
                <a:spcPts val="60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6" marL="1974960" indent="-219240">
              <a:spcBef>
                <a:spcPts val="60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8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F1B59-B907-4030-A067-92B433B07C8D}" type="slidenum">
              <a:rPr b="0" lang="pt-PT" sz="18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30"/>
          <p:cNvSpPr/>
          <p:nvPr/>
        </p:nvSpPr>
        <p:spPr>
          <a:xfrm>
            <a:off x="6227640" y="6510240"/>
            <a:ext cx="2773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800" spc="-1" strike="noStrike">
                <a:solidFill>
                  <a:srgbClr val="404040"/>
                </a:solidFill>
                <a:latin typeface="Arial"/>
              </a:rPr>
              <a:t>Vítor Figueiredo</a:t>
            </a: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Conexão recta 44"/>
          <p:cNvSpPr/>
          <p:nvPr/>
        </p:nvSpPr>
        <p:spPr>
          <a:xfrm>
            <a:off x="0" y="6381720"/>
            <a:ext cx="9144000" cy="0"/>
          </a:xfrm>
          <a:prstGeom prst="line">
            <a:avLst/>
          </a:prstGeom>
          <a:ln w="12600">
            <a:solidFill>
              <a:srgbClr val="0309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89" name="Imagem 1" descr="logoesav"/>
          <p:cNvPicPr/>
          <p:nvPr/>
        </p:nvPicPr>
        <p:blipFill>
          <a:blip r:embed="rId2"/>
          <a:stretch/>
        </p:blipFill>
        <p:spPr>
          <a:xfrm>
            <a:off x="179280" y="115920"/>
            <a:ext cx="708120" cy="708120"/>
          </a:xfrm>
          <a:prstGeom prst="rect">
            <a:avLst/>
          </a:prstGeom>
          <a:ln w="0">
            <a:noFill/>
          </a:ln>
        </p:spPr>
      </p:pic>
      <p:sp>
        <p:nvSpPr>
          <p:cNvPr id="90" name="Retângulo 2"/>
          <p:cNvSpPr/>
          <p:nvPr/>
        </p:nvSpPr>
        <p:spPr>
          <a:xfrm>
            <a:off x="954360" y="473040"/>
            <a:ext cx="180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3300"/>
                </a:solidFill>
                <a:latin typeface="Verdana"/>
                <a:ea typeface="Times New Roman"/>
              </a:rPr>
              <a:t>IPV-Escola Superior Agrária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093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13880" y="249192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30937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3" marL="1536120" indent="-219240">
              <a:spcBef>
                <a:spcPts val="601"/>
              </a:spcBef>
              <a:buClr>
                <a:srgbClr val="030937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4" marL="1974960" indent="-219240">
              <a:spcBef>
                <a:spcPts val="601"/>
              </a:spcBef>
              <a:buClr>
                <a:srgbClr val="030937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5" marL="1974960" indent="-219240">
              <a:spcBef>
                <a:spcPts val="60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6" marL="1974960" indent="-219240">
              <a:spcBef>
                <a:spcPts val="60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8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2FB76-CF0C-48DE-9411-C4549F0CC240}" type="slidenum">
              <a:rPr b="0" lang="pt-PT" sz="18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6516720" cy="25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30937"/>
                </a:solidFill>
                <a:latin typeface="Arial"/>
              </a:rPr>
              <a:t>Lastragem e pneus</a:t>
            </a:r>
            <a:endParaRPr b="1" lang="en-US" sz="44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0" y="3573360"/>
            <a:ext cx="4870440" cy="2362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Objecto 1"/>
          <p:cNvGraphicFramePr/>
          <p:nvPr/>
        </p:nvGraphicFramePr>
        <p:xfrm>
          <a:off x="6516720" y="3422520"/>
          <a:ext cx="1876320" cy="28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2" name="Objecto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16720" y="3422520"/>
                    <a:ext cx="1876320" cy="28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AutoShape 2"/>
          <p:cNvSpPr/>
          <p:nvPr/>
        </p:nvSpPr>
        <p:spPr>
          <a:xfrm>
            <a:off x="2438280" y="1600200"/>
            <a:ext cx="5410440" cy="36576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808080"/>
                </a:solidFill>
                <a:latin typeface="Lucida Sans Unicode"/>
              </a:rPr>
              <a:t>VAMOS CONHECER UM PNEU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VEJAMOS UM PNEU EM CORTE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Banda de rolamento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Lonas ou telas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Talões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Bojo ou flanco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graphicFrame>
        <p:nvGraphicFramePr>
          <p:cNvPr id="168" name="Object 4"/>
          <p:cNvGraphicFramePr/>
          <p:nvPr/>
        </p:nvGraphicFramePr>
        <p:xfrm>
          <a:off x="5229360" y="1981080"/>
          <a:ext cx="26463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29360" y="1981080"/>
                    <a:ext cx="26463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 thruBlk="true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88840" y="836640"/>
            <a:ext cx="7715520" cy="14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OS PNEUS PODEM CLASSIFICAR-SE PELA SUA ESTRUTURA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440" y="26665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PNEU RADIAL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PNEU DIAGONAL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"/>
          <p:cNvPicPr/>
          <p:nvPr/>
        </p:nvPicPr>
        <p:blipFill>
          <a:blip r:embed="rId2"/>
          <a:stretch/>
        </p:blipFill>
        <p:spPr>
          <a:xfrm>
            <a:off x="4284720" y="2276640"/>
            <a:ext cx="2101680" cy="3171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4" name="Objecto 1"/>
          <p:cNvGraphicFramePr/>
          <p:nvPr/>
        </p:nvGraphicFramePr>
        <p:xfrm>
          <a:off x="6948360" y="2421000"/>
          <a:ext cx="2062440" cy="317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" name="Objecto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48360" y="2421000"/>
                    <a:ext cx="2062440" cy="31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 thruBlk="true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Pneu Diagonal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A BANDA DE ROLAMENTO ESTÁ SOLIDÁRIA COM OS FLANCOS,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 </a:t>
            </a:r>
            <a:r>
              <a:rPr b="0" i="1" lang="pt-PT" sz="2800" spc="-1" strike="noStrike">
                <a:solidFill>
                  <a:srgbClr val="030937"/>
                </a:solidFill>
                <a:latin typeface="Swis721 BdOul BT"/>
              </a:rPr>
              <a:t>DAÍ RESULTA: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5189400" y="1981080"/>
            <a:ext cx="2727360" cy="41148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Pneu Diagonal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Fricção com o solo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Desgaste mais rápido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Menor aderência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Consumo de combustível mais elevado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5189400" y="1981080"/>
            <a:ext cx="2727360" cy="4114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Pneu Radial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As flexões não são transmitidas à banda de rolamento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30937"/>
              </a:buClr>
              <a:buFont typeface="Swis721 BdOul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800" spc="-1" strike="noStrike">
                <a:solidFill>
                  <a:srgbClr val="030937"/>
                </a:solidFill>
                <a:latin typeface="Swis721 BdOul BT"/>
              </a:rPr>
              <a:t>DAÍ RESULTA: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graphicFrame>
        <p:nvGraphicFramePr>
          <p:cNvPr id="184" name="Object 4"/>
          <p:cNvGraphicFramePr/>
          <p:nvPr/>
        </p:nvGraphicFramePr>
        <p:xfrm>
          <a:off x="5214960" y="1981080"/>
          <a:ext cx="26766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4960" y="1981080"/>
                    <a:ext cx="26766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Pneu Radial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Diminui a compactação do solo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Reduz a patinagem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Aumenta a produtividade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Diminui o consumo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Melhora o conforto e a flexibilidade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graphicFrame>
        <p:nvGraphicFramePr>
          <p:cNvPr id="188" name="Object 4"/>
          <p:cNvGraphicFramePr/>
          <p:nvPr/>
        </p:nvGraphicFramePr>
        <p:xfrm>
          <a:off x="5214960" y="1981080"/>
          <a:ext cx="26766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4960" y="1981080"/>
                    <a:ext cx="26766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NO FLANCO DO PNEU, ENCONTRAMOS ALGUNS NÚMEROS E LETRAS QUE IDENTIFICAM AS MEDIDAS DE UM PNEU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91" name="Picture 3" descr=""/>
          <p:cNvPicPr/>
          <p:nvPr/>
        </p:nvPicPr>
        <p:blipFill>
          <a:blip r:embed="rId1"/>
          <a:stretch/>
        </p:blipFill>
        <p:spPr>
          <a:xfrm>
            <a:off x="685800" y="3027240"/>
            <a:ext cx="3809880" cy="202104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685800" y="772920"/>
            <a:ext cx="7772400" cy="1143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MEDIDAS DE UM PNEU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MEDIDAS DE UM PNEU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O Primeiro número  que encontramos identifica a largura total do pneu (em mms ou polegadas)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 rot="19832400">
            <a:off x="990720" y="3885840"/>
            <a:ext cx="6858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96" name="Picture 5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4190760" cy="3938760"/>
          </a:xfrm>
          <a:prstGeom prst="rect">
            <a:avLst/>
          </a:prstGeom>
          <a:ln w="0">
            <a:noFill/>
          </a:ln>
        </p:spPr>
      </p:pic>
      <p:sp>
        <p:nvSpPr>
          <p:cNvPr id="197" name="Oval 6"/>
          <p:cNvSpPr/>
          <p:nvPr/>
        </p:nvSpPr>
        <p:spPr>
          <a:xfrm rot="978600">
            <a:off x="1904760" y="4648320"/>
            <a:ext cx="304560" cy="1295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" name="Line 7"/>
          <p:cNvSpPr/>
          <p:nvPr/>
        </p:nvSpPr>
        <p:spPr>
          <a:xfrm flipH="1" flipV="1">
            <a:off x="2437920" y="457164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slow">
    <p:fade thruBlk="true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7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O 2º número identifica a série do pneu, ou seja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A relação que existe entre a altura do flanco e a largura total do pneu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685800" y="2209680"/>
            <a:ext cx="3809880" cy="3579840"/>
          </a:xfrm>
          <a:prstGeom prst="rect">
            <a:avLst/>
          </a:prstGeom>
          <a:ln w="0">
            <a:noFill/>
          </a:ln>
        </p:spPr>
      </p:pic>
      <p:sp>
        <p:nvSpPr>
          <p:cNvPr id="201" name="Oval 4"/>
          <p:cNvSpPr/>
          <p:nvPr/>
        </p:nvSpPr>
        <p:spPr>
          <a:xfrm rot="912600">
            <a:off x="1904760" y="4724280"/>
            <a:ext cx="304560" cy="1143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Line 5"/>
          <p:cNvSpPr/>
          <p:nvPr/>
        </p:nvSpPr>
        <p:spPr>
          <a:xfrm flipH="1" flipV="1">
            <a:off x="2666880" y="434304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MEDIDAS DE UM PNEU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zoom dir="in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Lastragem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9640" y="1988640"/>
            <a:ext cx="8454960" cy="35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30937"/>
                </a:solidFill>
                <a:latin typeface="Arial"/>
              </a:rPr>
              <a:t>Consiste na adição de peso ao tractor com dois objetivos: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30937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30937"/>
                </a:solidFill>
                <a:latin typeface="Arial"/>
              </a:rPr>
              <a:t>- </a:t>
            </a:r>
            <a:r>
              <a:rPr b="1" lang="pt-PT" sz="2000" spc="-1" strike="noStrike">
                <a:solidFill>
                  <a:srgbClr val="030937"/>
                </a:solidFill>
                <a:latin typeface="Arial"/>
              </a:rPr>
              <a:t>Possibilitar a melhoria da aderência ao solo;</a:t>
            </a:r>
            <a:endParaRPr b="0" lang="en-US" sz="2000" spc="-1" strike="noStrike">
              <a:solidFill>
                <a:srgbClr val="030937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30937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30937"/>
                </a:solidFill>
                <a:latin typeface="Arial"/>
              </a:rPr>
              <a:t>- </a:t>
            </a:r>
            <a:r>
              <a:rPr b="1" lang="pt-PT" sz="2000" spc="-1" strike="noStrike">
                <a:solidFill>
                  <a:srgbClr val="030937"/>
                </a:solidFill>
                <a:latin typeface="Arial"/>
              </a:rPr>
              <a:t>Permitir um melhor equilíbrio do tractor, facilitando assim a transferência de peso.</a:t>
            </a:r>
            <a:endParaRPr b="0" lang="en-US" sz="2000" spc="-1" strike="noStrike">
              <a:solidFill>
                <a:srgbClr val="030937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30937"/>
                </a:solidFill>
                <a:latin typeface="Arial"/>
              </a:rPr>
              <a:t>A lastragem pode ser feita pela colocação de pesos ou pela adição de água nas rodas traseiras do tractor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30937"/>
                </a:solidFill>
                <a:latin typeface="Arial"/>
              </a:rPr>
              <a:t>A colocação de pesos pode ser feita nas rodas do tractor, na parte dianteira e ainda no sistema de levantamento hidráulico traseiro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O último nº identifica o diâmetro da jante (em polegadas)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205" name="Picture 3" descr=""/>
          <p:cNvPicPr/>
          <p:nvPr/>
        </p:nvPicPr>
        <p:blipFill>
          <a:blip r:embed="rId1"/>
          <a:stretch/>
        </p:blipFill>
        <p:spPr>
          <a:xfrm>
            <a:off x="685800" y="2247840"/>
            <a:ext cx="3809880" cy="3579840"/>
          </a:xfrm>
          <a:prstGeom prst="rect">
            <a:avLst/>
          </a:prstGeom>
          <a:ln w="0">
            <a:noFill/>
          </a:ln>
        </p:spPr>
      </p:pic>
      <p:sp>
        <p:nvSpPr>
          <p:cNvPr id="206" name="Oval 4"/>
          <p:cNvSpPr/>
          <p:nvPr/>
        </p:nvSpPr>
        <p:spPr>
          <a:xfrm rot="491400">
            <a:off x="1904760" y="4724280"/>
            <a:ext cx="380880" cy="1143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Line 5"/>
          <p:cNvSpPr/>
          <p:nvPr/>
        </p:nvSpPr>
        <p:spPr>
          <a:xfrm flipH="1" flipV="1">
            <a:off x="2971440" y="40381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MEDIDAS DE UM PNEU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RESISTÊNCIA DO PNEU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É um dado importante, que está directamente ligado: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1- À velocidade máxima a que pode circular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2-À carga que pode suportar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RESISTÊNCIA DO PNEU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Também é possível conhecê-la nos números identificados no pneu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RESISTÊNCIA DO PNEU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A capacidade de carga é-nos dada por um número (146) que figura numa tabela universal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4648320" y="3027240"/>
            <a:ext cx="3809880" cy="2230560"/>
          </a:xfrm>
          <a:prstGeom prst="rect">
            <a:avLst/>
          </a:prstGeom>
          <a:ln w="0">
            <a:noFill/>
          </a:ln>
        </p:spPr>
      </p:pic>
      <p:sp>
        <p:nvSpPr>
          <p:cNvPr id="216" name="Line 5"/>
          <p:cNvSpPr/>
          <p:nvPr/>
        </p:nvSpPr>
        <p:spPr>
          <a:xfrm>
            <a:off x="7238880" y="3809880"/>
            <a:ext cx="763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slow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RESISTÊNCIA DO PNEU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257800" y="198108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A velocidade máxima a que deve rodar é identificada por uma letra conjugada com um nº (A 8)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219" name="Picture 4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4495680" cy="2631960"/>
          </a:xfrm>
          <a:prstGeom prst="rect">
            <a:avLst/>
          </a:prstGeom>
          <a:ln w="0">
            <a:noFill/>
          </a:ln>
        </p:spPr>
      </p:pic>
      <p:sp>
        <p:nvSpPr>
          <p:cNvPr id="220" name="Line 5"/>
          <p:cNvSpPr/>
          <p:nvPr/>
        </p:nvSpPr>
        <p:spPr>
          <a:xfrm flipH="1">
            <a:off x="3733920" y="3581280"/>
            <a:ext cx="380880" cy="152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slow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RESISTÊNCIA DO PNEU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10516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A resistência pode ainda aparecer no pneu identificado pelas letras </a:t>
            </a:r>
            <a:r>
              <a:rPr b="0" lang="pt-PT" sz="2800" spc="-1" strike="noStrike">
                <a:solidFill>
                  <a:srgbClr val="030937"/>
                </a:solidFill>
                <a:latin typeface="Futura XBlk BT"/>
              </a:rPr>
              <a:t>PR</a:t>
            </a: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 seguidas de um número que identifica o nº de camadas de lona do pneu (PR 8)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223" name="Picture 4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4572000" cy="2676240"/>
          </a:xfrm>
          <a:prstGeom prst="rect">
            <a:avLst/>
          </a:prstGeom>
          <a:ln w="0">
            <a:noFill/>
          </a:ln>
        </p:spPr>
      </p:pic>
      <p:sp>
        <p:nvSpPr>
          <p:cNvPr id="224" name="Oval 5"/>
          <p:cNvSpPr/>
          <p:nvPr/>
        </p:nvSpPr>
        <p:spPr>
          <a:xfrm>
            <a:off x="3352680" y="3505320"/>
            <a:ext cx="533520" cy="533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Text Box 6"/>
          <p:cNvSpPr/>
          <p:nvPr/>
        </p:nvSpPr>
        <p:spPr>
          <a:xfrm rot="2345400">
            <a:off x="3351600" y="365724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pt-PT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PR 8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276720" y="350532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3657600" y="3962520"/>
            <a:ext cx="2286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Oval 9"/>
          <p:cNvSpPr/>
          <p:nvPr/>
        </p:nvSpPr>
        <p:spPr>
          <a:xfrm>
            <a:off x="3048120" y="3276720"/>
            <a:ext cx="304560" cy="304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Line 10"/>
          <p:cNvSpPr/>
          <p:nvPr/>
        </p:nvSpPr>
        <p:spPr>
          <a:xfrm flipH="1">
            <a:off x="3733920" y="3505320"/>
            <a:ext cx="380880" cy="228600"/>
          </a:xfrm>
          <a:prstGeom prst="line">
            <a:avLst/>
          </a:prstGeom>
          <a:ln w="2844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slow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Dúvidas?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4920" y="7646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Lastragem na frente do trator 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"/>
          <p:cNvPicPr/>
          <p:nvPr/>
        </p:nvPicPr>
        <p:blipFill>
          <a:blip r:embed="rId2"/>
          <a:stretch/>
        </p:blipFill>
        <p:spPr>
          <a:xfrm>
            <a:off x="611280" y="1989000"/>
            <a:ext cx="8254800" cy="37054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7646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Lastragem na retaguarda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"/>
          <p:cNvPicPr/>
          <p:nvPr/>
        </p:nvPicPr>
        <p:blipFill>
          <a:blip r:embed="rId2"/>
          <a:stretch/>
        </p:blipFill>
        <p:spPr>
          <a:xfrm>
            <a:off x="539640" y="1989000"/>
            <a:ext cx="7996320" cy="37515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4920" y="7646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Lastragem nas rodas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" descr=""/>
          <p:cNvPicPr/>
          <p:nvPr/>
        </p:nvPicPr>
        <p:blipFill>
          <a:blip r:embed="rId2"/>
          <a:stretch/>
        </p:blipFill>
        <p:spPr>
          <a:xfrm>
            <a:off x="1187280" y="2349360"/>
            <a:ext cx="6816960" cy="36878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4920" y="7646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Lastragem nas rodas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" descr=""/>
          <p:cNvPicPr/>
          <p:nvPr/>
        </p:nvPicPr>
        <p:blipFill>
          <a:blip r:embed="rId2"/>
          <a:stretch/>
        </p:blipFill>
        <p:spPr>
          <a:xfrm>
            <a:off x="262080" y="1819440"/>
            <a:ext cx="8486640" cy="41162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30937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Script MT Bold"/>
              </a:rPr>
              <a:t>De nada serve ter muita potência no motor, se houver muita patinagem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30937"/>
              </a:buClr>
              <a:buFont typeface="Vineta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Vineta BT"/>
              </a:rPr>
              <a:t>Escolha o pneu certo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58" name="Picture 3" descr="D:\PFiles\MSOffice\Clipart\standard\stddir1\BD05175_.WMF"/>
          <p:cNvPicPr/>
          <p:nvPr/>
        </p:nvPicPr>
        <p:blipFill>
          <a:blip r:embed="rId1"/>
          <a:stretch/>
        </p:blipFill>
        <p:spPr>
          <a:xfrm>
            <a:off x="4648320" y="2301840"/>
            <a:ext cx="3809880" cy="3471840"/>
          </a:xfrm>
          <a:prstGeom prst="rect">
            <a:avLst/>
          </a:prstGeom>
          <a:ln w="0">
            <a:noFill/>
          </a:ln>
        </p:spPr>
      </p:pic>
      <p:sp>
        <p:nvSpPr>
          <p:cNvPr id="159" name="AutoShape 4"/>
          <p:cNvSpPr/>
          <p:nvPr/>
        </p:nvSpPr>
        <p:spPr>
          <a:xfrm>
            <a:off x="1523880" y="762120"/>
            <a:ext cx="6934320" cy="1295280"/>
          </a:xfrm>
          <a:prstGeom prst="wedgeEllipseCallout">
            <a:avLst>
              <a:gd name="adj1" fmla="val 2587"/>
              <a:gd name="adj2" fmla="val 23786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 POTÊNCIA DO MOTOR TEM QUE SER TRANSMITIDA AO SOLO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FUNÇÕES DO PNEU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Suportar a carga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Transmitir as forças de aceleração e travagem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Dirigir o veículo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Participar na suspensão e no conforto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Participar na estabilidade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Transmitir informação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Consumir a menor energia possí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62" name="Picture 4" descr="D:\PFiles\MSOffice\Clipart\standard\stddir1\BD05175_.WMF"/>
          <p:cNvPicPr/>
          <p:nvPr/>
        </p:nvPicPr>
        <p:blipFill>
          <a:blip r:embed="rId1"/>
          <a:stretch/>
        </p:blipFill>
        <p:spPr>
          <a:xfrm>
            <a:off x="5486400" y="1981080"/>
            <a:ext cx="3200400" cy="29163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PNEUS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CARACTERIZAÇÃO DOS VÁRIOS TIPOS DE PNEUS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MEDIDAS DOS PNEUS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RESISTÊNCIA DE UM PNEU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1T12:24:42Z</dcterms:created>
  <dc:creator>Vítor Figueiredo, Eng.</dc:creator>
  <dc:description/>
  <dc:language>en-US</dc:language>
  <cp:lastModifiedBy>Vitor Miguel Figueiredo</cp:lastModifiedBy>
  <cp:lastPrinted>2017-03-20T14:39:16Z</cp:lastPrinted>
  <dcterms:modified xsi:type="dcterms:W3CDTF">2017-03-20T14:39:43Z</dcterms:modified>
  <cp:revision>374</cp:revision>
  <dc:subject/>
  <dc:title>Slide 1</dc:title>
</cp:coreProperties>
</file>